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475-3353-4FD3-BC80-525D40E1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F3E-ECA2-4F1F-9C79-02F8469D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22F-27A1-440C-AD1A-BAD7B979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7BD-EF01-4674-B2CC-859E5331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709-ABBE-445E-968A-7E622E8F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D41-199A-461F-A5BE-54093267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24A-178D-4D3F-8B00-E972DB95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74F-1DE2-4DF6-A435-D34CBD37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907-C9A0-4BE2-8819-82BCA6F8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BEC-2A99-4371-8C04-3C8B6968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5BE-A4B5-4354-9A65-9E990F78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D10-D795-4725-A35D-3C37D708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A5D7-F699-4EF1-9B91-37770F0CD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Like an Impressio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471680"/>
            <a:ext cx="3143160" cy="223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250812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743200" y="4378320"/>
            <a:ext cx="27432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 of Impressionist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Visible Brush Strokes – creates a dreamy m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emphasis on lighting – painting at specific times during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rred lines creating a foggy effect – played with lights and sha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 – more variety showing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painted outdo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everyday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1440"/>
            <a:ext cx="914400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41440"/>
            <a:ext cx="914400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42880"/>
            <a:ext cx="91440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542880"/>
            <a:ext cx="91440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18:30:29Z</dcterms:created>
  <dc:creator>Patrick J. Mooney</dc:creator>
  <dc:description/>
  <dc:language>en-US</dc:language>
  <cp:lastModifiedBy>Patrick J. Mooney</cp:lastModifiedBy>
  <dcterms:modified xsi:type="dcterms:W3CDTF">2011-02-13T01:25:52Z</dcterms:modified>
  <cp:revision>3</cp:revision>
  <dc:subject/>
  <dc:title>Slide 1</dc:title>
</cp:coreProperties>
</file>